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4E18-9513-4473-8CB0-6DBCABB4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6A00-970D-4CCA-895C-7F4F8E9B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4FA-4396-4F62-8DF4-4C1BCF9C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7E3D-1C80-4234-8810-6670459D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A697-07D6-47D7-A824-D24596CD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0BF6-DD63-461D-9105-0776BB68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CD5A-6B90-4FBB-8887-D8D2A5B3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F1E5-D4F8-4DD9-8E1C-84B8A96A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B826-A8F1-48C8-8D79-DB826960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2651-298A-47DC-9E24-0E18B477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7BB1-0B17-4B97-9ED2-A760F080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1D2-3618-4862-83B9-A3DF7D31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104E-FAB6-4497-AF58-32454E37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0E3C-B450-482C-9091-D39F6214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1DC7-77EF-4C06-BB77-FB62FDC8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FA16-A3FC-4DE2-9D2E-545ADC33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C564-01E1-420D-8F05-2176674E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3B0-3F3C-46E9-B41D-4F4CA809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EB69-586F-4CC3-A61C-706E9A59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A49-6ED1-43FC-8D89-25EE9CFC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692-A3AE-43CF-9D3D-48891928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2EC6-A774-4DF9-8A2F-6AED4C38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630D-7D17-408E-B623-769076E8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8989-B104-4D57-A6F5-3738618F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FA35-753E-40A4-9F42-9DD89A7513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ED06-8C29-4DFC-B5E8-185E61621E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КОМУНИКАЦИЈА СА ПАЦИЈЕНТИМ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са рођацима који желе да прикрију истин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спитати разлога прикривања ист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бјаснити породици да треба да прихвати пацијентову потребу за објашњењ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во договорити да се разговора са пацијентом да се утврди колико он разуме сопствену ситуаци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бећати да пацијент неће добити ниједну информацију коју не тра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бјаснити да саопштавање реалне ситуације даје више постора за постизање краткорочних циљ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бјаснити да искрен разговор ствара осећај уте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творити могућност заједниког суср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себно причати са онима који су за прикрива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224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Препреке</a:t>
            </a: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 доброј комуникациј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ацијенти понекад не могу да нађу речи којима би изразили своја осећ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ацијенти не желе да буду терет и боје се да ће “пући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ацијенти се стиде да признају да имају проблем са савладавањем сопствене ситу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дравствени радници се боје да ће код пацијената изазвати душевни б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дравствени радници сматрају да емоционална подршка није део њихово посла и не знају како да то ура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моције пацијената могу лично да погађа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Препреке</a:t>
            </a: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 доброј комуникациј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Избегавати понашање које спречава комуникацију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етерани давање савета и утехе, пре него што се идентификују главни пробле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Занемаривање душевног 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Фокусирање искључиво на физичке аспек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омене теме разго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спутно развесељавање пациј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старијим</a:t>
            </a: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 пацијент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овор уз осмех има већи ефек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ледајте особу у лице, директан контакт очима боље држи пажњ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лиминишите напетост код себ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ристите краће и јасне речениц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ставите довољно времена саговорнику да разуме ваш гов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искретно проверавајте пажњу саговор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новите информацију ако је потреб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лагодите јачину свог говора. Говорити гласно није увек најбоље, осим ако саговорник не чуј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удите стрпљив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1224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 пацијентима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са ургентним психијат. стањ.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радити однос са пацијентом заснован на емпатији, искрености и прихватањ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азвијати однос у коме се пацијент може љутити, а да притом не реагује агресиј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мењивати индивидуални приступ пацијен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едвидети могућност агресивног понашања и превентивно деловати на спречавању тог понаш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штовати болесникову потребу за личним простором (склонити ствари које га плаш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оптуживати болесника, да му јача осећај крив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изазивати болес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 занемаривати сопствену безбед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122400"/>
            <a:ext cx="74678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 психотичним болеснико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 комуникацији је битно стрпљење и поштов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дстицати болесника да опширније одговара на питања, да успостави социјални контакт са друг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ратке једноставне реченице уз употребу социјалних подстицаја (шетња, игре, часописи 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ије добро директно противречити болесниковим суманутим идејама, већ је боље открити шта се крије иза њ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ткривањем тога ствара се осећај повер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сме се избегавати комуникација – то болесник може протумачити као поступак против њема и реаговати још агресивн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122400"/>
            <a:ext cx="74678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 депресивним болеснико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дстицати га на комуникацију са другим болесниц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уздржавати сопствену досаду и љутњ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презно посматрати болесника, вербалан и невербалан го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бјаснити сврху разго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ристити изразе подрке и разуме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стављати му питања на које може дати кратке и једноставне одгов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азговор треба да буде отворен и пун разуме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ажљиво испитати суицидне намере, без страха да ће му испитивање погоршати ст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22400"/>
            <a:ext cx="74678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 агресивним болеснико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дравствени радник мора бити смирен и отвор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еба проценити стање болесника: узнемиреност или “експлозиј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казати му жељу за разговором и слушањ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знати му да је љут и узнемир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позорити болесника да насилно понашање није прихватљи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ити на сигурној удаље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прекидати болесником исп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показивати му слагање са оним са чим се не слажем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стојати разуверити и опустити болес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болесником у акутном напитом стањ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стати миран, представити се болеснику и успоставити контакт са оч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 треба се према болеснику поставити изазивачки, нити тражити од њега да се сми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 потреби, неупадљиво треба звати помо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азговор треба водити у већој просторији, јер мања просторија може развити осећај “затворености у клопку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реба користити “Да, али ...” конструкцију. На пример: “Да, слажем се са вама, али можда би било добро да 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са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болесником са неповољном прогнозом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60-тих година </a:t>
            </a:r>
            <a:r>
              <a:rPr b="0" lang="sr-RS" sz="3600" spc="-1" strike="noStrike">
                <a:solidFill>
                  <a:srgbClr val="ff0000"/>
                </a:solidFill>
                <a:latin typeface="Arial"/>
              </a:rPr>
              <a:t>Сисели Саундерс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 је утемељила приступ комуникације са пацијентом који се заснива 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истин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отвореност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;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искреност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Алтернатива је приступ “</a:t>
            </a:r>
            <a:r>
              <a:rPr b="0" lang="sr-RS" sz="3600" spc="-1" strike="noStrike">
                <a:solidFill>
                  <a:srgbClr val="ff0000"/>
                </a:solidFill>
                <a:latin typeface="Arial"/>
              </a:rPr>
              <a:t>затворене свести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муникација – </a:t>
            </a:r>
            <a:r>
              <a:rPr b="1" lang="sr-RS" sz="4400" spc="-1" strike="noStrike">
                <a:solidFill>
                  <a:srgbClr val="0000ff"/>
                </a:solidFill>
                <a:latin typeface="Arial"/>
              </a:rPr>
              <a:t>саопштавање лоших вест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IK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оток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Припрем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пре састанка са пацијентом. Присуство члана породице је добра прак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Перцепциј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tion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– утврдити шта пацијент тренутно зна о својој бол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Добијање сигнал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itation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– Треба добити јасан став да ли пацијент хоће да зна своје стање. Уколико не, опција су рођа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Сазнањ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ајте сигнал упозор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Емпатиј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athy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– прихватите реакцију и покажите емпатију, али без ублажавања реал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0000"/>
                </a:solidFill>
                <a:latin typeface="Arial"/>
              </a:rPr>
              <a:t>Сумирањ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) – Резиме и стратегија за даљ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9T04:08:00Z</dcterms:modified>
  <cp:revision>176</cp:revision>
  <dc:subject/>
  <dc:title>Soft and Hard Skills Development: A Current Situation in Serbian Companies</dc:title>
</cp:coreProperties>
</file>